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4B5E-9343-4048-AE89-70069C99B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6001-1544-4636-B529-8DF9BDA41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E607-7EFC-4A4D-BAD4-A3EBB0CB5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705D-3F30-48F4-B788-731A7C6653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D1BA-C03D-4012-94F7-94431EF83E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C4E9-C76D-4750-83E4-5F2290BE4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B81F-CA2F-4BDD-9779-3553E02ED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99ED-49F7-4EF1-B22E-3C29C11E6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0149-5D0E-47B2-84A4-971B69D5B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2D79-97EE-477C-99BD-06C5745A1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CAD2-4D59-4488-9147-89F418901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C595-9083-456D-B681-E2F28D4CF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811C-613F-4CA0-AD1E-159A746887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molecular Forces of At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ersion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est force of at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in all molecular sub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with increasing molar mass (size of molec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ersion forces are a result of temporary dipoles formed by the shifting of electron clouds within molec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emporary dipoles attract or repel the electron clouds of nearby non-polar molec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ersion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33560" y="1676520"/>
            <a:ext cx="527688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pole-Dipole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actions between neighboring polar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trongest intermolecular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ar molecules act as little magnets, they have positive ends and negative ends which attract each oth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pole-Dipole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3320" y="1371600"/>
            <a:ext cx="483552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gen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ongest force of at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ong force of attraction between the unshared pair of electrons on O, N or F with a neighboring H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gen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629400" cy="49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old"/>
                <a:ea typeface="Arial Bold"/>
              </a:rPr>
              <a:t>Intermolecular Forc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Intermolecular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kutcher</dc:creator>
  <dc:description/>
  <dc:language>en-US</dc:language>
  <cp:lastModifiedBy/>
  <cp:revision>0</cp:revision>
  <dc:subject/>
  <dc:title>Intermolecular Forces of Attractions</dc:title>
</cp:coreProperties>
</file>